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93124-F056-4EE9-9720-73B73029AD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4056-99B3-4209-8598-5E250EE135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5190-C01B-4437-A16C-095F8C22AE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341E2-B135-42E4-9299-866B17FDCE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AEA7-D934-45BD-8538-7316868E27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D86F-28AF-43AA-9149-704D797406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D5523-6E00-4A20-BD81-A0CDC41848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4D781-4C75-4857-BDF8-135B538163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4B004-B75D-4C95-A5E2-DD88F5D033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A4CF8-980B-41B6-BC24-B3AF5F3BB6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241DD-2EDF-4685-AB8C-28C61F5A01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42DD6-15CF-4A08-BA94-8A4A2EFBE8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4537-8BD9-4BCA-8A56-823AA62FC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4F5E-7E3C-44B0-94C7-02C14E94B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5FCB-8246-45A1-A8B5-B9BB42051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2729-C3DB-4433-8B93-42780341D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2558-F88C-4CEF-B7C7-A06A4439F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2CA3-DDAB-4183-91EE-511AD7BFE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0D79-ADBD-43BA-BBE7-FBC657B4D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F63E-C84A-4C29-B135-DC97148E2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8898-AAD9-4B32-833B-18609E1D3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8D6E-7E6D-4EA5-81AC-F4ADCB385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BF91-7BBF-47E4-8DB1-D23B0279B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B3B4-3DFC-4FF8-9222-1533F3370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A939F0-FA43-4429-8E5B-C06A2E03BC0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4680" y="936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8920" y="10008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81000" y="641016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33480" y="2676600"/>
              <a:ext cx="5697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PROCESOS DE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26384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2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 Box 8"/>
          <p:cNvSpPr/>
          <p:nvPr/>
        </p:nvSpPr>
        <p:spPr>
          <a:xfrm>
            <a:off x="971640" y="105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ribución de sustancias en seres pluri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71640" y="1563840"/>
            <a:ext cx="72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eres pluricelulares, existen partes del cuerpo especializadas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Tomar o expulsar su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Transportar su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808360" cy="2952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179280" y="551664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digestivo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164360" y="533412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995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42764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4560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3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8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proceso mediante el cual los seres vivos expulsan de su cuerpo los desechos que generan su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940360" y="5508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excretor 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4572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93236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38 Grupo"/>
          <p:cNvGrpSpPr/>
          <p:nvPr/>
        </p:nvGrpSpPr>
        <p:grpSpPr>
          <a:xfrm>
            <a:off x="1547640" y="1773360"/>
            <a:ext cx="6266160" cy="1150920"/>
            <a:chOff x="1547640" y="1773360"/>
            <a:chExt cx="6266160" cy="1150920"/>
          </a:xfrm>
        </p:grpSpPr>
        <p:sp>
          <p:nvSpPr>
            <p:cNvPr id="60" name="Line 1"/>
            <p:cNvSpPr/>
            <p:nvPr/>
          </p:nvSpPr>
          <p:spPr>
            <a:xfrm>
              <a:off x="1547640" y="2276640"/>
              <a:ext cx="626472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2"/>
            <p:cNvSpPr/>
            <p:nvPr/>
          </p:nvSpPr>
          <p:spPr>
            <a:xfrm>
              <a:off x="1547640" y="2276640"/>
              <a:ext cx="1440" cy="576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3"/>
            <p:cNvSpPr/>
            <p:nvPr/>
          </p:nvSpPr>
          <p:spPr>
            <a:xfrm>
              <a:off x="4427640" y="1773360"/>
              <a:ext cx="1440" cy="503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4"/>
            <p:cNvSpPr/>
            <p:nvPr/>
          </p:nvSpPr>
          <p:spPr>
            <a:xfrm>
              <a:off x="3635280" y="2276640"/>
              <a:ext cx="1440" cy="576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>
              <a:off x="5724720" y="22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7812360" y="22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39 Grupo"/>
          <p:cNvGrpSpPr/>
          <p:nvPr/>
        </p:nvGrpSpPr>
        <p:grpSpPr>
          <a:xfrm>
            <a:off x="1332000" y="3278160"/>
            <a:ext cx="2089080" cy="1446120"/>
            <a:chOff x="1332000" y="3278160"/>
            <a:chExt cx="2089080" cy="1446120"/>
          </a:xfrm>
        </p:grpSpPr>
        <p:sp>
          <p:nvSpPr>
            <p:cNvPr id="67" name="Line 7"/>
            <p:cNvSpPr/>
            <p:nvPr/>
          </p:nvSpPr>
          <p:spPr>
            <a:xfrm>
              <a:off x="1332000" y="4076640"/>
              <a:ext cx="208764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8"/>
            <p:cNvSpPr/>
            <p:nvPr/>
          </p:nvSpPr>
          <p:spPr>
            <a:xfrm flipV="1">
              <a:off x="1619280" y="3278160"/>
              <a:ext cx="1440" cy="8049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1332000" y="40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3419640" y="40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72" name="AutoShape 1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1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" name="Picture 1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46 Grupo"/>
          <p:cNvGrpSpPr/>
          <p:nvPr/>
        </p:nvGrpSpPr>
        <p:grpSpPr>
          <a:xfrm>
            <a:off x="3492360" y="907920"/>
            <a:ext cx="2016360" cy="1008360"/>
            <a:chOff x="3492360" y="907920"/>
            <a:chExt cx="2016360" cy="1008360"/>
          </a:xfrm>
        </p:grpSpPr>
        <p:sp>
          <p:nvSpPr>
            <p:cNvPr id="78" name="AutoShape 17"/>
            <p:cNvSpPr/>
            <p:nvPr/>
          </p:nvSpPr>
          <p:spPr>
            <a:xfrm>
              <a:off x="3492360" y="907920"/>
              <a:ext cx="2016360" cy="100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3572280" y="1197000"/>
              <a:ext cx="185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40 Grupo"/>
          <p:cNvGrpSpPr/>
          <p:nvPr/>
        </p:nvGrpSpPr>
        <p:grpSpPr>
          <a:xfrm>
            <a:off x="395280" y="2492280"/>
            <a:ext cx="2089080" cy="1224000"/>
            <a:chOff x="395280" y="2492280"/>
            <a:chExt cx="2089080" cy="1224000"/>
          </a:xfrm>
        </p:grpSpPr>
        <p:sp>
          <p:nvSpPr>
            <p:cNvPr id="81" name="AutoShape 18"/>
            <p:cNvSpPr/>
            <p:nvPr/>
          </p:nvSpPr>
          <p:spPr>
            <a:xfrm>
              <a:off x="395280" y="2492280"/>
              <a:ext cx="208908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467280" y="2780280"/>
              <a:ext cx="1921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OBTENCIÓN DE NUTRIEN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41 Grupo"/>
          <p:cNvGrpSpPr/>
          <p:nvPr/>
        </p:nvGrpSpPr>
        <p:grpSpPr>
          <a:xfrm>
            <a:off x="2627280" y="2492280"/>
            <a:ext cx="2016000" cy="1224000"/>
            <a:chOff x="2627280" y="2492280"/>
            <a:chExt cx="2016000" cy="1224000"/>
          </a:xfrm>
        </p:grpSpPr>
        <p:sp>
          <p:nvSpPr>
            <p:cNvPr id="84" name="AutoShape 21">
              <a:hlinkClick r:id="rId2" action="ppaction://hlinksldjump"/>
            </p:cNvPr>
            <p:cNvSpPr/>
            <p:nvPr/>
          </p:nvSpPr>
          <p:spPr>
            <a:xfrm>
              <a:off x="2627280" y="2492280"/>
              <a:ext cx="194400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26"/>
            <p:cNvSpPr/>
            <p:nvPr/>
          </p:nvSpPr>
          <p:spPr>
            <a:xfrm>
              <a:off x="2699280" y="2924640"/>
              <a:ext cx="194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42 Grupo"/>
          <p:cNvGrpSpPr/>
          <p:nvPr/>
        </p:nvGrpSpPr>
        <p:grpSpPr>
          <a:xfrm>
            <a:off x="4716360" y="2492280"/>
            <a:ext cx="2087640" cy="1224000"/>
            <a:chOff x="4716360" y="2492280"/>
            <a:chExt cx="2087640" cy="1224000"/>
          </a:xfrm>
        </p:grpSpPr>
        <p:sp>
          <p:nvSpPr>
            <p:cNvPr id="87" name="AutoShape 20">
              <a:hlinkClick r:id="rId3" action="ppaction://hlinksldjump"/>
            </p:cNvPr>
            <p:cNvSpPr/>
            <p:nvPr/>
          </p:nvSpPr>
          <p:spPr>
            <a:xfrm>
              <a:off x="4721040" y="2492280"/>
              <a:ext cx="193284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7">
              <a:hlinkClick r:id="rId4" action="ppaction://hlinksldjump"/>
            </p:cNvPr>
            <p:cNvSpPr/>
            <p:nvPr/>
          </p:nvSpPr>
          <p:spPr>
            <a:xfrm>
              <a:off x="4716360" y="2780280"/>
              <a:ext cx="208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ISTRIBUCIÓN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E SUSTANC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43 Grupo"/>
          <p:cNvGrpSpPr/>
          <p:nvPr/>
        </p:nvGrpSpPr>
        <p:grpSpPr>
          <a:xfrm>
            <a:off x="6804000" y="2492280"/>
            <a:ext cx="1944720" cy="1224000"/>
            <a:chOff x="6804000" y="2492280"/>
            <a:chExt cx="1944720" cy="1224000"/>
          </a:xfrm>
        </p:grpSpPr>
        <p:sp>
          <p:nvSpPr>
            <p:cNvPr id="90" name="AutoShape 19">
              <a:hlinkClick r:id="rId5" action="ppaction://hlinksldjump"/>
            </p:cNvPr>
            <p:cNvSpPr/>
            <p:nvPr/>
          </p:nvSpPr>
          <p:spPr>
            <a:xfrm>
              <a:off x="6804000" y="2492280"/>
              <a:ext cx="194472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8">
              <a:hlinkClick r:id="rId6" action="ppaction://hlinksldjump"/>
            </p:cNvPr>
            <p:cNvSpPr/>
            <p:nvPr/>
          </p:nvSpPr>
          <p:spPr>
            <a:xfrm>
              <a:off x="6804000" y="292464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44 Grupo"/>
          <p:cNvGrpSpPr/>
          <p:nvPr/>
        </p:nvGrpSpPr>
        <p:grpSpPr>
          <a:xfrm>
            <a:off x="324000" y="4221000"/>
            <a:ext cx="1944360" cy="1224000"/>
            <a:chOff x="324000" y="4221000"/>
            <a:chExt cx="1944360" cy="1224000"/>
          </a:xfrm>
        </p:grpSpPr>
        <p:sp>
          <p:nvSpPr>
            <p:cNvPr id="93" name="AutoShape 23">
              <a:hlinkClick r:id="rId7" action="ppaction://hlinksldjump"/>
            </p:cNvPr>
            <p:cNvSpPr/>
            <p:nvPr/>
          </p:nvSpPr>
          <p:spPr>
            <a:xfrm>
              <a:off x="324000" y="4221000"/>
              <a:ext cx="194436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9">
              <a:hlinkClick r:id="rId8" action="ppaction://hlinksldjump"/>
            </p:cNvPr>
            <p:cNvSpPr/>
            <p:nvPr/>
          </p:nvSpPr>
          <p:spPr>
            <a:xfrm>
              <a:off x="324000" y="4509000"/>
              <a:ext cx="194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 AUTÓTRO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45 Grupo"/>
          <p:cNvGrpSpPr/>
          <p:nvPr/>
        </p:nvGrpSpPr>
        <p:grpSpPr>
          <a:xfrm>
            <a:off x="2340000" y="4221000"/>
            <a:ext cx="2087640" cy="1224000"/>
            <a:chOff x="2340000" y="4221000"/>
            <a:chExt cx="2087640" cy="1224000"/>
          </a:xfrm>
        </p:grpSpPr>
        <p:sp>
          <p:nvSpPr>
            <p:cNvPr id="96" name="AutoShape 22">
              <a:hlinkClick r:id="rId9" action="ppaction://hlinksldjump"/>
            </p:cNvPr>
            <p:cNvSpPr/>
            <p:nvPr/>
          </p:nvSpPr>
          <p:spPr>
            <a:xfrm>
              <a:off x="2416680" y="4221000"/>
              <a:ext cx="193428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30">
              <a:hlinkClick r:id="rId10" action="ppaction://hlinksldjump"/>
            </p:cNvPr>
            <p:cNvSpPr/>
            <p:nvPr/>
          </p:nvSpPr>
          <p:spPr>
            <a:xfrm>
              <a:off x="2340000" y="4509000"/>
              <a:ext cx="208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 HETERÓTRO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Text Box 31"/>
          <p:cNvSpPr/>
          <p:nvPr/>
        </p:nvSpPr>
        <p:spPr>
          <a:xfrm>
            <a:off x="5724360" y="54450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los recuadros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2376360" cy="27162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5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01" name="AutoShape 16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Picture 20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21"/>
          <p:cNvSpPr/>
          <p:nvPr/>
        </p:nvSpPr>
        <p:spPr>
          <a:xfrm>
            <a:off x="97164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Obtención de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971640" y="1413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son las sustancias (orgánicas e inorgánicas) que toman los seres vivos y son útiles para sus célu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tipos de nutri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44 Grupo"/>
          <p:cNvGrpSpPr/>
          <p:nvPr/>
        </p:nvGrpSpPr>
        <p:grpSpPr>
          <a:xfrm>
            <a:off x="1311120" y="3986280"/>
            <a:ext cx="1028880" cy="322200"/>
            <a:chOff x="1311120" y="3986280"/>
            <a:chExt cx="1028880" cy="322200"/>
          </a:xfrm>
        </p:grpSpPr>
        <p:grpSp>
          <p:nvGrpSpPr>
            <p:cNvPr id="109" name="Group 12"/>
            <p:cNvGrpSpPr/>
            <p:nvPr/>
          </p:nvGrpSpPr>
          <p:grpSpPr>
            <a:xfrm>
              <a:off x="1311120" y="3986280"/>
              <a:ext cx="900360" cy="322200"/>
              <a:chOff x="1311120" y="3986280"/>
              <a:chExt cx="900360" cy="322200"/>
            </a:xfrm>
          </p:grpSpPr>
          <p:pic>
            <p:nvPicPr>
              <p:cNvPr id="11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11120" y="3986280"/>
                <a:ext cx="90036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14"/>
              <p:cNvSpPr/>
              <p:nvPr/>
            </p:nvSpPr>
            <p:spPr>
              <a:xfrm>
                <a:off x="1459080" y="4046400"/>
                <a:ext cx="6076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Text Box 23"/>
            <p:cNvSpPr/>
            <p:nvPr/>
          </p:nvSpPr>
          <p:spPr>
            <a:xfrm>
              <a:off x="1402920" y="4005000"/>
              <a:ext cx="93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2060"/>
                  </a:solidFill>
                  <a:latin typeface="Arial"/>
                </a:rPr>
                <a:t>Energ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43 Grupo"/>
          <p:cNvGrpSpPr/>
          <p:nvPr/>
        </p:nvGrpSpPr>
        <p:grpSpPr>
          <a:xfrm>
            <a:off x="2610000" y="3554280"/>
            <a:ext cx="1098360" cy="687600"/>
            <a:chOff x="2610000" y="3554280"/>
            <a:chExt cx="1098360" cy="687600"/>
          </a:xfrm>
        </p:grpSpPr>
        <p:grpSp>
          <p:nvGrpSpPr>
            <p:cNvPr id="114" name="Group 9"/>
            <p:cNvGrpSpPr/>
            <p:nvPr/>
          </p:nvGrpSpPr>
          <p:grpSpPr>
            <a:xfrm>
              <a:off x="2610000" y="3554280"/>
              <a:ext cx="1046160" cy="687600"/>
              <a:chOff x="2610000" y="3554280"/>
              <a:chExt cx="1046160" cy="687600"/>
            </a:xfrm>
          </p:grpSpPr>
          <p:pic>
            <p:nvPicPr>
              <p:cNvPr id="115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10000" y="3554280"/>
                <a:ext cx="1046160" cy="6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11"/>
              <p:cNvSpPr/>
              <p:nvPr/>
            </p:nvSpPr>
            <p:spPr>
              <a:xfrm>
                <a:off x="2774880" y="3668760"/>
                <a:ext cx="711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24"/>
            <p:cNvSpPr/>
            <p:nvPr/>
          </p:nvSpPr>
          <p:spPr>
            <a:xfrm>
              <a:off x="2627280" y="364464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Sustancias inorgánic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45 Grupo"/>
          <p:cNvGrpSpPr/>
          <p:nvPr/>
        </p:nvGrpSpPr>
        <p:grpSpPr>
          <a:xfrm>
            <a:off x="1676520" y="5284800"/>
            <a:ext cx="1239840" cy="614520"/>
            <a:chOff x="1676520" y="5284800"/>
            <a:chExt cx="1239840" cy="614520"/>
          </a:xfrm>
        </p:grpSpPr>
        <p:grpSp>
          <p:nvGrpSpPr>
            <p:cNvPr id="119" name="Group 6"/>
            <p:cNvGrpSpPr/>
            <p:nvPr/>
          </p:nvGrpSpPr>
          <p:grpSpPr>
            <a:xfrm>
              <a:off x="1676520" y="5284800"/>
              <a:ext cx="1046160" cy="614520"/>
              <a:chOff x="1676520" y="5284800"/>
              <a:chExt cx="1046160" cy="614520"/>
            </a:xfrm>
          </p:grpSpPr>
          <p:pic>
            <p:nvPicPr>
              <p:cNvPr id="120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76520" y="5284800"/>
                <a:ext cx="1046160" cy="61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8"/>
              <p:cNvSpPr/>
              <p:nvPr/>
            </p:nvSpPr>
            <p:spPr>
              <a:xfrm>
                <a:off x="1839960" y="5384880"/>
                <a:ext cx="71100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25"/>
            <p:cNvSpPr/>
            <p:nvPr/>
          </p:nvSpPr>
          <p:spPr>
            <a:xfrm>
              <a:off x="1763640" y="5343480"/>
              <a:ext cx="11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trientes orgán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6"/>
          <a:stretch/>
        </p:blipFill>
        <p:spPr>
          <a:xfrm>
            <a:off x="5724360" y="3357720"/>
            <a:ext cx="239256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24" name="40 Grupo"/>
          <p:cNvGrpSpPr/>
          <p:nvPr/>
        </p:nvGrpSpPr>
        <p:grpSpPr>
          <a:xfrm>
            <a:off x="7236000" y="5229360"/>
            <a:ext cx="1241280" cy="614160"/>
            <a:chOff x="7236000" y="5229360"/>
            <a:chExt cx="1241280" cy="614160"/>
          </a:xfrm>
        </p:grpSpPr>
        <p:grpSp>
          <p:nvGrpSpPr>
            <p:cNvPr id="125" name="Group 26"/>
            <p:cNvGrpSpPr/>
            <p:nvPr/>
          </p:nvGrpSpPr>
          <p:grpSpPr>
            <a:xfrm>
              <a:off x="7236000" y="5229360"/>
              <a:ext cx="1047600" cy="614160"/>
              <a:chOff x="7236000" y="5229360"/>
              <a:chExt cx="1047600" cy="614160"/>
            </a:xfrm>
          </p:grpSpPr>
          <p:pic>
            <p:nvPicPr>
              <p:cNvPr id="126" name="Pictur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7236000" y="5229360"/>
                <a:ext cx="1047600" cy="61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 Box 28"/>
              <p:cNvSpPr/>
              <p:nvPr/>
            </p:nvSpPr>
            <p:spPr>
              <a:xfrm>
                <a:off x="7400880" y="5330520"/>
                <a:ext cx="71136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7324560" y="5289480"/>
              <a:ext cx="11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trientes orgán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38 Grupo"/>
          <p:cNvGrpSpPr/>
          <p:nvPr/>
        </p:nvGrpSpPr>
        <p:grpSpPr>
          <a:xfrm>
            <a:off x="5435640" y="4005360"/>
            <a:ext cx="1041480" cy="320400"/>
            <a:chOff x="5435640" y="4005360"/>
            <a:chExt cx="1041480" cy="320400"/>
          </a:xfrm>
        </p:grpSpPr>
        <p:grpSp>
          <p:nvGrpSpPr>
            <p:cNvPr id="130" name="Group 3"/>
            <p:cNvGrpSpPr/>
            <p:nvPr/>
          </p:nvGrpSpPr>
          <p:grpSpPr>
            <a:xfrm>
              <a:off x="5435640" y="4005360"/>
              <a:ext cx="1041480" cy="320400"/>
              <a:chOff x="5435640" y="4005360"/>
              <a:chExt cx="1041480" cy="320400"/>
            </a:xfrm>
          </p:grpSpPr>
          <p:pic>
            <p:nvPicPr>
              <p:cNvPr id="131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435640" y="4005360"/>
                <a:ext cx="104148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5"/>
              <p:cNvSpPr/>
              <p:nvPr/>
            </p:nvSpPr>
            <p:spPr>
              <a:xfrm>
                <a:off x="5599080" y="4066920"/>
                <a:ext cx="711000" cy="20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5523480" y="40248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Text Box 31"/>
          <p:cNvSpPr/>
          <p:nvPr/>
        </p:nvSpPr>
        <p:spPr>
          <a:xfrm>
            <a:off x="3851280" y="595008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las imágenes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46 CuadroTexto"/>
          <p:cNvSpPr/>
          <p:nvPr/>
        </p:nvSpPr>
        <p:spPr>
          <a:xfrm>
            <a:off x="5364000" y="3068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Heter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47 CuadroTexto"/>
          <p:cNvSpPr/>
          <p:nvPr/>
        </p:nvSpPr>
        <p:spPr>
          <a:xfrm>
            <a:off x="1187280" y="3068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38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71640" y="1563840"/>
            <a:ext cx="71294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propia de organismos capaces de crear nutrientes orgánicos a partir de sustancias inorgánicas, tales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Sal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Dióxido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4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7"/>
          <p:cNvSpPr/>
          <p:nvPr/>
        </p:nvSpPr>
        <p:spPr>
          <a:xfrm>
            <a:off x="97164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71640" y="15638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, es la fotosíntesis. Las plantas y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lgas fabrican nutrientes orgánicos gracias 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nergía del 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067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50072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097440" cy="301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3"/>
          <a:stretch/>
        </p:blipFill>
        <p:spPr>
          <a:xfrm>
            <a:off x="6156360" y="3068640"/>
            <a:ext cx="2081160" cy="328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4"/>
          <a:stretch/>
        </p:blipFill>
        <p:spPr>
          <a:xfrm>
            <a:off x="4284720" y="2997360"/>
            <a:ext cx="14698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4"/>
          <p:cNvGrpSpPr/>
          <p:nvPr/>
        </p:nvGrpSpPr>
        <p:grpSpPr>
          <a:xfrm>
            <a:off x="3924360" y="4437000"/>
            <a:ext cx="2301840" cy="935280"/>
            <a:chOff x="3924360" y="4437000"/>
            <a:chExt cx="2301840" cy="935280"/>
          </a:xfrm>
        </p:grpSpPr>
        <p:sp>
          <p:nvSpPr>
            <p:cNvPr id="159" name="AutoShape 15"/>
            <p:cNvSpPr/>
            <p:nvPr/>
          </p:nvSpPr>
          <p:spPr>
            <a:xfrm>
              <a:off x="5003640" y="4437000"/>
              <a:ext cx="214560" cy="647640"/>
            </a:xfrm>
            <a:prstGeom prst="flowChartProcess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3924360" y="4941720"/>
              <a:ext cx="2301840" cy="430560"/>
            </a:xfrm>
            <a:prstGeom prst="leftRightArrow">
              <a:avLst>
                <a:gd name="adj1" fmla="val 50000"/>
                <a:gd name="adj2" fmla="val 5012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4643280" y="5013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6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heter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71640" y="1563840"/>
            <a:ext cx="720072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organismos con nutrición heterótrofa no pueden fabricar materia orgánica a partir de materia inorgánica. Por ello, la toman de otros seres vivos o sus res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 de organismos heterótrofos so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43280" y="6308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2771640" y="3746520"/>
            <a:ext cx="30956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381636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75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8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84360" y="155736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tiende como respiración el proceso en el que un ser vivo toma oxígeno y expulsa dióxido de carbon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211640" y="6021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Oxíg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148360" y="522936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ióxido 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11280" y="24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es un proceso que se da en las células para utilizar los nutrientes con el oxígeno y obtener energía. Este proceso lo realizan las mitocond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8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dicho proceso, la mitocondria toma oxígeno, obtiene energía de los nutrientes, y expulsa dióxido de carbo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4303800" cy="2719440"/>
          </a:xfrm>
          <a:prstGeom prst="rect">
            <a:avLst/>
          </a:prstGeom>
          <a:ln w="0">
            <a:noFill/>
          </a:ln>
        </p:spPr>
      </p:pic>
      <p:sp>
        <p:nvSpPr>
          <p:cNvPr id="194" name="Freeform 10"/>
          <p:cNvSpPr/>
          <p:nvPr/>
        </p:nvSpPr>
        <p:spPr>
          <a:xfrm>
            <a:off x="4572000" y="3573360"/>
            <a:ext cx="2232000" cy="7192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ffc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1771560" y="4444920"/>
            <a:ext cx="2232000" cy="784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2232025" h="784225">
                <a:moveTo>
                  <a:pt x="0" y="784225"/>
                </a:moveTo>
                <a:lnTo>
                  <a:pt x="0" y="441127"/>
                </a:lnTo>
                <a:cubicBezTo>
                  <a:pt x="0" y="251639"/>
                  <a:pt x="153610" y="98029"/>
                  <a:pt x="343098" y="98029"/>
                </a:cubicBezTo>
                <a:cubicBezTo>
                  <a:pt x="343098" y="98029"/>
                  <a:pt x="343098" y="98029"/>
                  <a:pt x="343098" y="98029"/>
                </a:cubicBezTo>
                <a:lnTo>
                  <a:pt x="2035969" y="98028"/>
                </a:lnTo>
                <a:lnTo>
                  <a:pt x="2035969" y="0"/>
                </a:lnTo>
                <a:lnTo>
                  <a:pt x="2232025" y="196056"/>
                </a:lnTo>
                <a:lnTo>
                  <a:pt x="2035969" y="392113"/>
                </a:lnTo>
                <a:lnTo>
                  <a:pt x="2035969" y="294084"/>
                </a:lnTo>
                <a:lnTo>
                  <a:pt x="343098" y="294084"/>
                </a:lnTo>
                <a:lnTo>
                  <a:pt x="343097" y="294084"/>
                </a:lnTo>
                <a:cubicBezTo>
                  <a:pt x="261888" y="294084"/>
                  <a:pt x="196056" y="359916"/>
                  <a:pt x="196056" y="441125"/>
                </a:cubicBezTo>
                <a:lnTo>
                  <a:pt x="196056" y="784225"/>
                </a:lnTo>
                <a:lnTo>
                  <a:pt x="0" y="784225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12"/>
          <p:cNvSpPr/>
          <p:nvPr/>
        </p:nvSpPr>
        <p:spPr>
          <a:xfrm flipV="1">
            <a:off x="1771560" y="3725280"/>
            <a:ext cx="2232000" cy="718920"/>
          </a:xfrm>
          <a:custGeom>
            <a:avLst/>
            <a:gdLst>
              <a:gd name="textAreaLeft" fmla="*/ 0 w 2232000"/>
              <a:gd name="textAreaRight" fmla="*/ 2232360 w 2232000"/>
              <a:gd name="textAreaTop" fmla="*/ -360 h 718920"/>
              <a:gd name="textAreaBottom" fmla="*/ 718920 h 71892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13"/>
          <p:cNvSpPr/>
          <p:nvPr/>
        </p:nvSpPr>
        <p:spPr>
          <a:xfrm flipV="1">
            <a:off x="4643280" y="4724280"/>
            <a:ext cx="2232360" cy="720720"/>
          </a:xfrm>
          <a:custGeom>
            <a:avLst/>
            <a:gdLst>
              <a:gd name="textAreaLeft" fmla="*/ 0 w 2232360"/>
              <a:gd name="textAreaRight" fmla="*/ 2232720 w 2232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232025" h="720725">
                <a:moveTo>
                  <a:pt x="0" y="720725"/>
                </a:moveTo>
                <a:lnTo>
                  <a:pt x="0" y="405408"/>
                </a:lnTo>
                <a:cubicBezTo>
                  <a:pt x="0" y="231263"/>
                  <a:pt x="141172" y="90091"/>
                  <a:pt x="315317" y="90091"/>
                </a:cubicBezTo>
                <a:cubicBezTo>
                  <a:pt x="315317" y="90091"/>
                  <a:pt x="315317" y="90091"/>
                  <a:pt x="315317" y="90091"/>
                </a:cubicBezTo>
                <a:lnTo>
                  <a:pt x="2051844" y="90091"/>
                </a:lnTo>
                <a:lnTo>
                  <a:pt x="2051844" y="0"/>
                </a:lnTo>
                <a:lnTo>
                  <a:pt x="2232025" y="180181"/>
                </a:lnTo>
                <a:lnTo>
                  <a:pt x="2051844" y="360363"/>
                </a:lnTo>
                <a:lnTo>
                  <a:pt x="2051844" y="270272"/>
                </a:lnTo>
                <a:lnTo>
                  <a:pt x="315317" y="270272"/>
                </a:lnTo>
                <a:lnTo>
                  <a:pt x="315316" y="270272"/>
                </a:lnTo>
                <a:cubicBezTo>
                  <a:pt x="240683" y="270272"/>
                  <a:pt x="180181" y="330774"/>
                  <a:pt x="180181" y="405407"/>
                </a:cubicBezTo>
                <a:lnTo>
                  <a:pt x="180181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11600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Oxí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971640" y="5229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6875640" y="335772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Dióxido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948360" y="501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948360" y="5580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en una mitocond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3995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42764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3922920" y="42642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949560" cy="37846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0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2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8"/>
          <p:cNvSpPr/>
          <p:nvPr/>
        </p:nvSpPr>
        <p:spPr>
          <a:xfrm>
            <a:off x="971640" y="10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ribución de sustancias en seres uni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eres unicelulares, el intercambio de sustancias con el medio se produce a través d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embra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10"/>
          <p:cNvSpPr/>
          <p:nvPr/>
        </p:nvSpPr>
        <p:spPr>
          <a:xfrm flipV="1">
            <a:off x="1692360" y="4149000"/>
            <a:ext cx="2374920" cy="647640"/>
          </a:xfrm>
          <a:custGeom>
            <a:avLst/>
            <a:gdLst>
              <a:gd name="textAreaLeft" fmla="*/ 0 w 2374920"/>
              <a:gd name="textAreaRight" fmla="*/ 2375280 w 237492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374900" h="647700">
                <a:moveTo>
                  <a:pt x="0" y="647700"/>
                </a:moveTo>
                <a:lnTo>
                  <a:pt x="0" y="364331"/>
                </a:lnTo>
                <a:cubicBezTo>
                  <a:pt x="0" y="207830"/>
                  <a:pt x="126868" y="80962"/>
                  <a:pt x="283368" y="80962"/>
                </a:cubicBezTo>
                <a:lnTo>
                  <a:pt x="2212975" y="80963"/>
                </a:lnTo>
                <a:lnTo>
                  <a:pt x="2212975" y="0"/>
                </a:lnTo>
                <a:lnTo>
                  <a:pt x="2374900" y="161925"/>
                </a:lnTo>
                <a:lnTo>
                  <a:pt x="2212975" y="323850"/>
                </a:lnTo>
                <a:lnTo>
                  <a:pt x="2212975" y="242888"/>
                </a:lnTo>
                <a:lnTo>
                  <a:pt x="283369" y="242888"/>
                </a:lnTo>
                <a:lnTo>
                  <a:pt x="283368" y="242888"/>
                </a:lnTo>
                <a:cubicBezTo>
                  <a:pt x="216297" y="242888"/>
                  <a:pt x="161925" y="297260"/>
                  <a:pt x="161925" y="364331"/>
                </a:cubicBezTo>
                <a:lnTo>
                  <a:pt x="161925" y="647700"/>
                </a:lnTo>
                <a:lnTo>
                  <a:pt x="0" y="647700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 rot="5400000">
            <a:off x="5844960" y="3327120"/>
            <a:ext cx="576360" cy="2376720"/>
          </a:xfrm>
          <a:custGeom>
            <a:avLst/>
            <a:gdLst>
              <a:gd name="textAreaLeft" fmla="*/ 0 w 576360"/>
              <a:gd name="textAreaRight" fmla="*/ 576720 w 57636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576262" h="2376487">
                <a:moveTo>
                  <a:pt x="0" y="2376487"/>
                </a:moveTo>
                <a:lnTo>
                  <a:pt x="0" y="324147"/>
                </a:lnTo>
                <a:cubicBezTo>
                  <a:pt x="0" y="184907"/>
                  <a:pt x="112875" y="72032"/>
                  <a:pt x="252114" y="72032"/>
                </a:cubicBezTo>
                <a:lnTo>
                  <a:pt x="432197" y="72033"/>
                </a:lnTo>
                <a:lnTo>
                  <a:pt x="432197" y="0"/>
                </a:lnTo>
                <a:lnTo>
                  <a:pt x="576262" y="144066"/>
                </a:lnTo>
                <a:lnTo>
                  <a:pt x="432197" y="288131"/>
                </a:lnTo>
                <a:lnTo>
                  <a:pt x="432197" y="216098"/>
                </a:lnTo>
                <a:lnTo>
                  <a:pt x="252115" y="216098"/>
                </a:lnTo>
                <a:lnTo>
                  <a:pt x="252114" y="216098"/>
                </a:lnTo>
                <a:cubicBezTo>
                  <a:pt x="192441" y="216098"/>
                  <a:pt x="144066" y="264473"/>
                  <a:pt x="144066" y="324146"/>
                </a:cubicBezTo>
                <a:lnTo>
                  <a:pt x="144066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971640" y="3687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227640" y="47671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s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948360" y="285264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Intercambio de sustancias en un protoz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5:27Z</dcterms:modified>
  <cp:revision>52</cp:revision>
  <dc:subject/>
  <dc:title>Presentación de PowerPoint</dc:title>
</cp:coreProperties>
</file>